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22.jpeg" ContentType="image/jpeg"/>
  <Override PartName="/ppt/media/image5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44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851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908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62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4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908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62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851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--------"/>
          <p:cNvPicPr/>
          <p:nvPr/>
        </p:nvPicPr>
        <p:blipFill>
          <a:blip r:embed="rId2"/>
          <a:stretch/>
        </p:blipFill>
        <p:spPr>
          <a:xfrm>
            <a:off x="0" y="0"/>
            <a:ext cx="650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solar.physics.montana.edu/YPOP/Spotlight/Today/xray.html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ine.gsfc.nasa.gov/docs/dict_qz.html#radio" TargetMode="External"/><Relationship Id="rId2" Type="http://schemas.openxmlformats.org/officeDocument/2006/relationships/hyperlink" Target="http://imagine.gsfc.nasa.gov/docs/dict_jp.html#microwave" TargetMode="External"/><Relationship Id="rId3" Type="http://schemas.openxmlformats.org/officeDocument/2006/relationships/hyperlink" Target="http://imagine.gsfc.nasa.gov/docs/dict_ei.html#infrared" TargetMode="External"/><Relationship Id="rId4" Type="http://schemas.openxmlformats.org/officeDocument/2006/relationships/hyperlink" Target="http://imagine.gsfc.nasa.gov/docs/dict_qz.html#visible" TargetMode="External"/><Relationship Id="rId5" Type="http://schemas.openxmlformats.org/officeDocument/2006/relationships/hyperlink" Target="http://imagine.gsfc.nasa.gov/docs/dict_qz.html#ultraviolet" TargetMode="External"/><Relationship Id="rId6" Type="http://schemas.openxmlformats.org/officeDocument/2006/relationships/hyperlink" Target="http://imagine.gsfc.nasa.gov/docs/dict_qz.html#X-ray" TargetMode="External"/><Relationship Id="rId7" Type="http://schemas.openxmlformats.org/officeDocument/2006/relationships/hyperlink" Target="http://imagine.gsfc.nasa.gov/docs/dict_ei.html#gamma-ray" TargetMode="Externa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local.gb.nrao.edu/GBT/GBT.shtml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map.gsfc.nasa.gov/m_ig/990293/990293.html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store5.yimg.com/I/usappliance_1733_8267597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lipartguide.com/clipart_original/santacruz_sunset_ev5.jp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1469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Impact"/>
              </a:rPr>
              <a:t>What Wavelength Was That?</a:t>
            </a:r>
            <a:br>
              <a:rPr sz="4400"/>
            </a:b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1240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Impact"/>
              </a:rPr>
              <a:t>Mr Hemming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" name="" descr="--------"/>
          <p:cNvPicPr/>
          <p:nvPr/>
        </p:nvPicPr>
        <p:blipFill>
          <a:blip r:embed="rId1"/>
          <a:stretch/>
        </p:blipFill>
        <p:spPr>
          <a:xfrm>
            <a:off x="0" y="0"/>
            <a:ext cx="6508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1967040"/>
            <a:ext cx="6705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Examining the Electromagnetic Spectru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with Hands-On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ltraviol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62080" y="1600200"/>
            <a:ext cx="392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itted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nning booths (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un (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ack light bulbs (B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V lam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cted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ce based UV dete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V Cam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ying insects (fli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SunVision 28LE Tanning Bed with face tanners"/>
          <p:cNvPicPr/>
          <p:nvPr/>
        </p:nvPicPr>
        <p:blipFill>
          <a:blip r:embed="rId1"/>
          <a:stretch/>
        </p:blipFill>
        <p:spPr>
          <a:xfrm>
            <a:off x="1066680" y="1752480"/>
            <a:ext cx="358164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X-ra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2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itted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tronomical objec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-ray mach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T scan mach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lder televis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dioactive min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port luggage scann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ed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ace based X-ray dete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-ray fil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CD dete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Loading..."/>
          <p:cNvPicPr/>
          <p:nvPr/>
        </p:nvPicPr>
        <p:blipFill>
          <a:blip r:embed="rId1"/>
          <a:stretch/>
        </p:blipFill>
        <p:spPr>
          <a:xfrm>
            <a:off x="7238880" y="4419720"/>
            <a:ext cx="1511280" cy="2108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952880" y="1676520"/>
            <a:ext cx="2725920" cy="2187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238880" y="4419720"/>
            <a:ext cx="1524240" cy="2133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Gamma Ra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2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itted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dioactive materi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loding nuclear weap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amma-ray bur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ar fla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ed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amma detectors and astronomical satelli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cal imaging dete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724280" y="3529080"/>
            <a:ext cx="3479760" cy="2519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 rot="930000">
            <a:off x="5333760" y="1142640"/>
            <a:ext cx="342900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X-rays and Gamma Ray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44440" y="1523880"/>
            <a:ext cx="417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lack ho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ctive Galax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ulsa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ffuse emi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pernova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amma-ray bur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nidentifi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67320" y="3425760"/>
            <a:ext cx="9360" cy="6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10080" y="17524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3047760"/>
            <a:ext cx="68580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Multiwavelength Sun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9320" y="304920"/>
            <a:ext cx="2521080" cy="2185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635280" y="304920"/>
            <a:ext cx="2308320" cy="2185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6705720" y="304920"/>
            <a:ext cx="2187360" cy="2187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631800" y="3908520"/>
            <a:ext cx="2187720" cy="2187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6705720" y="4187880"/>
            <a:ext cx="1952640" cy="1874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3429000" y="3886200"/>
            <a:ext cx="2666880" cy="2146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315800" y="247500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-R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00000" y="243828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239600" y="24382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44360" y="617220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ra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50760" y="605952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1160" y="609588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w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Mnemonic for the Electromagnetic Spectrum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amma R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X-r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ltraviol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i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fra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icrow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ad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6600"/>
                </a:solidFill>
                <a:latin typeface="Arial"/>
              </a:rPr>
              <a:t>A CONTEST!!!</a:t>
            </a:r>
            <a:endParaRPr b="0" lang="en-US" sz="6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257800" y="2743200"/>
            <a:ext cx="304812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GXUVIM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0" y="4495680"/>
            <a:ext cx="3886200" cy="11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RMIVUX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lectromagnetic Wav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l travel at the speed of light, 300,000 km /s.  (That’s 8 times around the earth in a second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l can travel through empty space (a vacu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l can be reflected or refra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shorter the wavelength the more dangerous they 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y all transmit energy from one place to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61920" y="274680"/>
            <a:ext cx="78012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lectromagnetic Radia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nly difference between radio waves, visible light, and gamma-rays is the energy of the phot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Radio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waves have photons with low energies,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microwave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have a little more energy than radio waves,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infrared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has still more, then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4"/>
              </a:rPr>
              <a:t>visibl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5"/>
              </a:rPr>
              <a:t>ultraviolet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6"/>
              </a:rPr>
              <a:t>X-ray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, and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7"/>
              </a:rPr>
              <a:t>gamma-ray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Size comparison of wavelenghts with respective objects."/>
          <p:cNvPicPr/>
          <p:nvPr/>
        </p:nvPicPr>
        <p:blipFill>
          <a:blip r:embed="rId1"/>
          <a:stretch/>
        </p:blipFill>
        <p:spPr>
          <a:xfrm>
            <a:off x="762120" y="762120"/>
            <a:ext cx="8381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Radio</a:t>
            </a:r>
            <a:br>
              <a:rPr sz="4000"/>
            </a:br>
            <a:r>
              <a:rPr b="0" lang="en-US" sz="3000" spc="-1" strike="noStrike">
                <a:solidFill>
                  <a:srgbClr val="e3ebf1"/>
                </a:solidFill>
                <a:latin typeface="Arial"/>
              </a:rPr>
              <a:t>(Low Frequency &amp; Very High Frequency)</a:t>
            </a:r>
            <a:endParaRPr b="0" lang="en-US" sz="3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762080" y="1600200"/>
            <a:ext cx="392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itted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tronomical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io Station transmit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cted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nd based radio telesco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4038480"/>
            <a:ext cx="2857680" cy="1924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rst000003.jpg"/>
          <p:cNvPicPr/>
          <p:nvPr/>
        </p:nvPicPr>
        <p:blipFill>
          <a:blip r:embed="rId3"/>
          <a:stretch/>
        </p:blipFill>
        <p:spPr>
          <a:xfrm>
            <a:off x="2652840" y="1523880"/>
            <a:ext cx="191916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crowav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4" name="" descr="MAP Spacecraft Portrait, Computer render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78040" y="3568680"/>
            <a:ext cx="2031840" cy="21463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4193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itt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 clouds collapsing into st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wave Ov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ar S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 Ph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cted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wave Telesco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od (heat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 ph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ar syst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1523880"/>
            <a:ext cx="2819520" cy="15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nfrared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(Near and Thermal)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2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itted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n and stars (Nea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V Remote Contr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od Warming Lights (Therm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thing at room temp or abo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cted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rared Cam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Vs, VCR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sk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Click here for a larger imag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62600" y="3809880"/>
            <a:ext cx="2381400" cy="244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800600" y="1600200"/>
            <a:ext cx="35053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Visib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2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itted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un and other astronomical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er poin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ht bul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cted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meras (film or digit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man ey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ts (red ligh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esco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867280" y="4497480"/>
            <a:ext cx="2562480" cy="1598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876920" y="1523880"/>
            <a:ext cx="28191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13:24:00Z</dcterms:created>
  <dc:creator>Christine Royce</dc:creator>
  <dc:description/>
  <dc:language>en-US</dc:language>
  <cp:lastModifiedBy>Ian Hemming</cp:lastModifiedBy>
  <dcterms:modified xsi:type="dcterms:W3CDTF">2006-11-28T07:55:23Z</dcterms:modified>
  <cp:revision>23</cp:revision>
  <dc:subject/>
  <dc:title>What Wavelength Was That?</dc:title>
</cp:coreProperties>
</file>